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AFD-D3F2-46D6-B6E3-C772BB01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FC3-FCAA-47D9-A101-E9DFBE62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ECDF-6250-4975-AA08-6C4D921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1237-0EB8-4A1E-BA7B-ABEE599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409E-37AA-4529-AF90-7AA935E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8F89-3367-4DBB-96DA-9CA831D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8000D-02FF-43B8-B22A-535ED61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D2E2-0077-4E7D-AE16-144FAB6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2918-EEF0-4FF9-B7CF-D48C399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7153-7AC2-45E1-AD41-2E97A83E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3576-EC85-4170-B65D-2747B149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ACF1-48A0-438C-A0B3-B250B08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1CF-1719-42E8-9F40-BB907F76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8E13-9EDC-4921-A216-30FDF2D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0B8C-BD60-425E-A0B4-1C5035BF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2E7B-CF53-4074-B669-37940EF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B120-9C03-4545-81E2-D35B2AE4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D8D8E-21EF-4E65-A18C-C9349ED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0B02-3A55-40C9-9575-CE9D647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0C48-3430-43E7-8DE5-D2211C5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9048-C98B-4AE4-9697-58B92FD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6CBB-D417-49B6-AEBB-BAA4F91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9CDC4-508D-4970-A291-B41C067E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07F-80AA-4D19-9B4F-AE131A76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3CD4A-8637-426C-AD47-88D6C52B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6C92-F319-44FF-975F-D4627A0C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C48C-3B49-470D-8646-47EDD79D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6E4D-1C2B-4647-8FC0-FB4F91F0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83E2-9141-479D-A451-D034334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DF467-345B-4A5B-B37B-9C0CB17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5A92-4C4D-419B-A07F-67198CB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85F2-0572-4CD6-B3A0-2D4EF5A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2EF7-9A6E-4720-8D73-2F42648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6993-E4F3-4884-B3B4-B59A2D4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7668-42B2-49F9-AEAF-5FFC1C0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BD3A-7059-4BC3-9DC9-E9C89209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9D61-BC84-44D3-B048-A0AC02A1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2B2C8-CA73-4478-AB63-E3D196DA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2C05D-B912-4C9A-9698-662C133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D93EF-AF10-42F2-B95E-7668C06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0D321-48BC-4CC6-A8BD-1AA55C1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979B-D4B5-478E-BC35-CEE5303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C0FD-D427-44B3-A261-C43FCE70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F93D4-2591-430D-A823-8FBFBED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19CDA-D174-4941-8123-169C732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1C0CE-64AF-4715-A220-B6F58DC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4296-0275-4139-8189-1B8FAAC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0E550-5AB2-48E2-B5B7-746D0AD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7ABD-344F-4388-9E38-A337DA74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02B85-3D85-42D6-A4C7-DD8F2023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38CCC-DEE3-4426-9768-4A7B000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FC4E7-161C-490F-B6B5-76150805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7044-CC9D-4868-A340-318657A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78B84-07D0-473F-B328-59CF6547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CF8CD-F0A5-4D94-9775-A6C1819E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6A79A-4EB7-44E6-A47F-BC9549A4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B26D-9EA8-44B9-8BE3-6E409B3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6310E-D556-4E57-82D8-1513098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81ADC-FCAB-4DF0-871E-1C8DF0B2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6E51C-8962-4C38-AC26-68DAB235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00B9-C099-4328-BD9D-FCAA502B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9D52-6BA6-4BA2-A9AD-269C8A4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BDEF2-4E33-437E-A3D5-F57C703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E5EEA-D7D8-4652-8E65-C17CB6C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700D-7F38-40C9-ABC3-4486B454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4EFF-0C1E-425B-8B87-72C7DBFF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4117-1FDD-46A0-92DC-EB3C226C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2D35C-04FF-4009-AA6E-C85881C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F20C-851D-4DB0-812F-79BD16CF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CF74E-8BB8-4267-A20A-EB17F71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44B98-0CCB-4D10-9BBB-67D2B4B6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D3950-36B0-4F3A-AAA7-40369283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E569B-33AA-44D8-B033-3C392735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735-BD27-4A3E-B86F-E97560D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3EC3-099C-4350-A1CC-C41ED4B2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A5E-59BD-46E0-9829-B192975C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592-6E34-4FD0-AEBD-BC04B89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E436-A976-4F83-B97A-EA12B771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6DDC-A45B-4312-BA59-024F91D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6A1-BD7E-4542-B3DE-9F415488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505-D010-4C73-A6A8-0B462141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AAFE-64D9-4CE3-B343-B3DD9F5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2217-01A3-4396-AE8E-F38563E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191B-A92F-40DC-B6B4-EFE3927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D09-DCAE-43DA-8A2E-2B44A6A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E2F3-4E1F-4394-B529-3291C733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2922-AFDE-43D2-8FA9-64D47AB0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631-824A-4ACB-BCE3-BB5C36C7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2B5-C8E9-46E3-9D78-CF452BF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F74-937D-4D45-9E4C-6FD9222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B4A5-989B-4A57-B0F5-A2F416DB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3069-8126-4912-A3D3-B5E1BD27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9B19-0B70-48CF-A9F9-DE719763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73A7-CE4E-4AD8-9F2D-49094EF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F64A-3443-4A73-A4EC-7F2C5983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D000-5DE5-41B8-B2EF-417B85F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008D-BA0C-4060-9741-C2C0FBA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42BB-4ABC-4A1D-BAF5-D88B99D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FA93-326D-44CC-8C85-0FBECF9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CDF-6399-48AA-A4E8-0CE8208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FFAF-6733-418F-9E77-01AA2AFB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6BF4-E93D-4D44-B54F-D22A984F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CDCF-C99D-40A6-BD07-8921E8BC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BE35-156F-4238-9ED0-BE752439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DC66-D6A7-4EFD-B088-44552137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C929-4810-4040-88E4-B65A694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D5D6-CD1F-44C1-A6AA-9B115D8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FAD4-8FE1-47CA-8DE8-20B7CD0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CE78-E510-4D6E-BA70-9EAD1CD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7BD3-9088-410D-AB5B-238CFED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A5E-CE7F-473A-9F0A-D05B2EF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63A1-E89F-4228-9D47-756B92C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3850-F621-4794-B46E-627E70E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33A0-9A5B-4645-867D-AD0BFDD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E5C6-813F-4722-9F44-311014CA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AA38-6D9F-4037-9FB1-84BAE18A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F715-D08D-447B-AA64-E4996619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B2DC-9A42-441D-943B-325387B1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4DA3-8AE7-4DCF-99D3-00D11C3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8947-6C64-4050-9A3E-6ED191C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C84F-DAE8-412B-AE26-5E2CADC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A51-FA37-4773-A22D-9559F79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4A33-AF03-4A57-90CA-9ED5ABB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A069-50DE-4960-97DB-BC32CC54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D33D-662B-4E00-9FCF-6B6F665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DFD4-5C97-4C6F-A813-14510E18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9F1B-77EA-4A8E-9E9E-4C24A70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8649-50D0-4379-B362-8146C551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C03A-9697-4DC7-86B2-63B9F03D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620F-0068-4C25-955D-499C7C71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7199-9AC6-4E07-B557-116671F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1324-6E30-4E8F-82A1-527C37B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111-ABA9-4D7B-80DA-D78828F31EC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0F6-FCFC-45FF-B7DA-74806B6ED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9D6-4298-4F72-B5CB-4BD5B316F5B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313-A56C-4958-A837-86FFCDF01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683E-E5D5-4567-BA54-DDDEADC3D22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A936-9885-42F8-80A6-16EC1E012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2E37-5045-4EE0-BBCD-2FFF0CF96D9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1EB8-8B57-4DCF-B966-AA5446210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84B6-1EF8-4916-8384-C22E4B85FEF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B06E-10D6-48B3-AD90-51F7876E6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BFB-93A8-4B27-AE12-A2507D6C28B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F0E-913F-4D5C-B322-7CAD35AB6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prstGeom prst="pie">
              <a:avLst/>
            </a:pr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prstGeom prst="pie">
              <a:avLst/>
            </a:pr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prstGeom prst="pie">
              <a:avLst/>
            </a:pr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prstGeom prst="pie">
              <a:avLst/>
            </a:pr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prstGeom prst="pie">
              <a:avLst/>
            </a:pr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prstGeom prst="pie">
              <a:avLst/>
            </a:prstGeom>
            <a:solidFill>
              <a:srgbClr val="073779"/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165-7DAA-433B-AF50-115270CAF10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6CD9-59EA-408E-A6E8-A6748C0DF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prstGeom prst="pie">
            <a:avLst/>
          </a:pr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prstGeom prst="pie">
            <a:avLst/>
          </a:pr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prstGeom prst="pie">
            <a:avLst/>
          </a:pr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prstGeom prst="pie">
            <a:avLst/>
          </a:pr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prstGeom prst="pie">
            <a:avLst/>
          </a:prstGeom>
          <a:solidFill>
            <a:srgbClr val="073779"/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prstGeom prst="pie">
            <a:avLst/>
          </a:pr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prstGeom prst="pie">
            <a:avLst/>
          </a:pr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9040" y="-776160"/>
                <a:ext cx="3197520" cy="1520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prstGeom prst="pie">
            <a:avLst/>
          </a:pr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prstGeom prst="pie">
            <a:avLst/>
          </a:prstGeom>
          <a:solidFill>
            <a:srgbClr val="073779"/>
          </a:solidFill>
          <a:ln w="12708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prstGeom prst="pie">
            <a:avLst/>
          </a:prstGeom>
          <a:solidFill>
            <a:srgbClr val="073779"/>
          </a:solidFill>
          <a:ln w="6336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6AC7-B52D-4332-BC84-883578F14A5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2AD-6FC9-4A2C-A0A1-B3F5184DC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DEA-F244-409F-BC56-309A0486B2E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B46-2C2C-4535-AF78-E01B5DB80D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464-2CC1-4D6D-9029-001F5AEF5AC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947-8A97-4BCF-A520-E8F73A9EB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711E-A0DA-4FC0-B2D3-D9769641A79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03C6-F962-4FED-9F5C-2FC5BF541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Hunger- A Webques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rade 7 Semin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“Who are the Hungry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46" name="Picture 4" descr=""/>
          <p:cNvPicPr/>
          <p:nvPr/>
        </p:nvPicPr>
        <p:blipFill>
          <a:blip r:embed="rId6"/>
          <a:stretch/>
        </p:blipFill>
        <p:spPr>
          <a:xfrm>
            <a:off x="5811840" y="3672000"/>
            <a:ext cx="29559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greatest concentration of hungry people can be found in what region on Earth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st the 4 population types that are at most risk for hunge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y are women emphasized as the most at risk populations for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 - Statistics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olve the following problems to put statistics into your section, “Who are the Hungry?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olve the problems with ratio tables on a scrap sheet of paper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5" descr=""/>
          <p:cNvPicPr/>
          <p:nvPr/>
        </p:nvPicPr>
        <p:blipFill>
          <a:blip r:embed="rId4"/>
          <a:stretch/>
        </p:blipFill>
        <p:spPr>
          <a:xfrm>
            <a:off x="4849920" y="4513320"/>
            <a:ext cx="2687400" cy="2344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5"/>
          <a:stretch/>
        </p:blipFill>
        <p:spPr>
          <a:xfrm>
            <a:off x="2004840" y="4836960"/>
            <a:ext cx="24321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 – Statistics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60280" y="3011040"/>
            <a:ext cx="85536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3 out of 4 hungry people live in rural areas. If there is a total of 925, 000, 000 hungry people, how many of them live in rural area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50% of hungry people are farmers. How many of the 925 million hungry people are farmer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2 out of 5 women in a village are hungry, how many women are hungry in a village with 25 women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Goal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ke a three- folding pamphlet informing your peers on hung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26" name="Picture 3" descr=""/>
          <p:cNvPicPr/>
          <p:nvPr/>
        </p:nvPicPr>
        <p:blipFill>
          <a:blip r:embed="rId3"/>
          <a:stretch/>
        </p:blipFill>
        <p:spPr>
          <a:xfrm>
            <a:off x="3259080" y="3983040"/>
            <a:ext cx="52927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Topics to Includ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symptoms of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causes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o are the hungr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What is Hunger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1" name="Picture 3" descr="Screen Shot 2012-09-29 at 1.17.28 PM.png"/>
          <p:cNvPicPr/>
          <p:nvPr/>
        </p:nvPicPr>
        <p:blipFill>
          <a:blip r:embed="rId6"/>
          <a:stretch/>
        </p:blipFill>
        <p:spPr>
          <a:xfrm>
            <a:off x="5769000" y="3718080"/>
            <a:ext cx="2886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ke sure to explain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he recommended daily intake of calorie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bout how many people are currently affected by hunger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Hunger is a greater risk to health than which three illnesses listed online?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Symptom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Use information from http://www.wfp.org/ under the Hu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What is Hunger Tab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http://www.livestrong.com/article/167119-signs-symptoms-of-fatigue-excessive-hunger/ to find more information on symptoms of hunge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Symptom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tate and explain the different symptoms of hung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8" name="Picture 3" descr=""/>
          <p:cNvPicPr/>
          <p:nvPr/>
        </p:nvPicPr>
        <p:blipFill>
          <a:blip r:embed="rId3"/>
          <a:stretch/>
        </p:blipFill>
        <p:spPr>
          <a:xfrm>
            <a:off x="3354480" y="3652920"/>
            <a:ext cx="2643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ause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“Causes of Hunger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5"/>
          <a:stretch/>
        </p:blipFill>
        <p:spPr>
          <a:xfrm>
            <a:off x="5600880" y="3841920"/>
            <a:ext cx="34099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ause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st the different causes of hunger and explain why each one is a caus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the single most common cause of food shortage in the world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y is there hunger if according to the section on Agricultural Infrastructure, all countries have a better than average growth of crop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6:58:00Z</dcterms:created>
  <dc:creator>Richard Efford</dc:creator>
  <dc:description/>
  <dc:language>en-US</dc:language>
  <cp:lastModifiedBy>Howard County Administrator</cp:lastModifiedBy>
  <dcterms:modified xsi:type="dcterms:W3CDTF">2012-10-01T14:12:19Z</dcterms:modified>
  <cp:revision>7</cp:revision>
  <dc:subject/>
  <dc:title>Hunger- A Webquest</dc:title>
</cp:coreProperties>
</file>